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29000"/>
          </a:bodyPr>
          <a:p>
            <a:pPr marL="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72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5000"/>
          </a:bodyPr>
          <a:p>
            <a:pPr marL="54288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3160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2032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0940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9812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9812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98120" indent="-3661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7000"/>
          </a:bodyPr>
          <a:p>
            <a:pPr marL="64296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8496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732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69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marL="751680" indent="-50724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51280" indent="-5068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51600" indent="-5068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51560" indent="-50724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51520" indent="-5068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51520" indent="-5068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51520" indent="-5068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26560" indent="-5281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4520" indent="-5281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62120" indent="-5281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0080" indent="-5281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98040" indent="-5281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98040" indent="-528120">
              <a:spcBef>
                <a:spcPts val="104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98040" indent="-528120">
              <a:spcBef>
                <a:spcPts val="104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8000"/>
          </a:bodyPr>
          <a:p>
            <a:pPr marL="734760" indent="-49608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25720" indent="-49572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17040" indent="-49572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08360" indent="-49608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99320" indent="-49572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99320" indent="-49572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99320" indent="-49572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1000"/>
          </a:bodyPr>
          <a:p>
            <a:pPr marL="20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0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7000"/>
          </a:bodyPr>
          <a:p>
            <a:pPr marL="64296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8496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732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69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11680" indent="-433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3720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arth Information Exchange: Architecture Overview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384880"/>
            <a:ext cx="10464840" cy="34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Karl Benedic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hair, ESIP Federation Information Technology and Interoperability Committe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SIP Federation Meeti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ummer, 2006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verview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835200" indent="-563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chitecture Compon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440" indent="-5634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SIP Managed and Hosted Compon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440" indent="-5634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ternal Collaborato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440" indent="-5634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ternal Resour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892840" y="429264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5232240" y="3629160"/>
            <a:ext cx="2540160" cy="24796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5219640" y="3594240"/>
            <a:ext cx="2552760" cy="255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5232240" y="3606840"/>
            <a:ext cx="2540160" cy="2539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258840" y="254160"/>
            <a:ext cx="2601720" cy="2539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291960" y="3606840"/>
            <a:ext cx="2540160" cy="25398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291960" y="689616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78240" y="5335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SIP Web Sit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ederation Background Inform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tatic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Administrative Materia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3378240" y="5335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ESIP Web Sit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Federation Background Inform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Static</a:t>
            </a: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 Administrative Materia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3379680" y="388620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SIP Wiki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red Knowled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llaborative Information Manage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3379680" y="388620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ESIP Wiki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Shared Knowled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Collaborative Information Manage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3378240" y="686448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arth Information Exchang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ustom To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er Customiz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teroper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378240" y="686448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Earth Information Exchang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Custom To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User Customiz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Interoper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469800" y="380880"/>
            <a:ext cx="12065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SIP Managed Components 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892840" y="4292640"/>
            <a:ext cx="1219320" cy="11682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69800" y="380880"/>
            <a:ext cx="12065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ternal Collaborators 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330800" y="3174840"/>
            <a:ext cx="4330440" cy="1562400"/>
            <a:chOff x="4330800" y="3174840"/>
            <a:chExt cx="4330440" cy="1562400"/>
          </a:xfrm>
        </p:grpSpPr>
        <p:pic>
          <p:nvPicPr>
            <p:cNvPr id="438" name="" descr=""/>
            <p:cNvPicPr/>
            <p:nvPr/>
          </p:nvPicPr>
          <p:blipFill>
            <a:blip r:embed="rId3"/>
            <a:stretch/>
          </p:blipFill>
          <p:spPr>
            <a:xfrm>
              <a:off x="4991040" y="3174840"/>
              <a:ext cx="9399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4"/>
            <a:stretch/>
          </p:blipFill>
          <p:spPr>
            <a:xfrm>
              <a:off x="4330800" y="4216320"/>
              <a:ext cx="93960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5"/>
            <a:stretch/>
          </p:blipFill>
          <p:spPr>
            <a:xfrm>
              <a:off x="6972480" y="3174840"/>
              <a:ext cx="93960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6"/>
            <a:stretch/>
          </p:blipFill>
          <p:spPr>
            <a:xfrm>
              <a:off x="7721640" y="4216320"/>
              <a:ext cx="939600" cy="52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" descr=""/>
          <p:cNvPicPr/>
          <p:nvPr/>
        </p:nvPicPr>
        <p:blipFill>
          <a:blip r:embed="rId7"/>
          <a:stretch/>
        </p:blipFill>
        <p:spPr>
          <a:xfrm>
            <a:off x="5359320" y="405144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8"/>
          <a:stretch/>
        </p:blipFill>
        <p:spPr>
          <a:xfrm>
            <a:off x="5359320" y="405144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9"/>
          <a:stretch/>
        </p:blipFill>
        <p:spPr>
          <a:xfrm>
            <a:off x="5359320" y="405144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0"/>
          <a:stretch/>
        </p:blipFill>
        <p:spPr>
          <a:xfrm>
            <a:off x="5359320" y="405144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1"/>
          <a:stretch/>
        </p:blipFill>
        <p:spPr>
          <a:xfrm>
            <a:off x="469800" y="77472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2"/>
          <a:stretch/>
        </p:blipFill>
        <p:spPr>
          <a:xfrm>
            <a:off x="469800" y="273060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3"/>
          <a:stretch/>
        </p:blipFill>
        <p:spPr>
          <a:xfrm>
            <a:off x="469800" y="4711680"/>
            <a:ext cx="2286000" cy="12654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4"/>
          <a:stretch/>
        </p:blipFill>
        <p:spPr>
          <a:xfrm>
            <a:off x="469800" y="6743880"/>
            <a:ext cx="2286000" cy="12650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378240" y="10414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GC WxS, CSW, JSR-168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3378240" y="2685960"/>
            <a:ext cx="91440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/Service Registry, CSW,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JSR-168, Community Are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3378240" y="497844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/Service Regis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3378240" y="70102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/Service Regis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3378240" y="10414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OGC WxS, CSW, JSR-168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3378240" y="2685960"/>
            <a:ext cx="91440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Data/Service Registry, CSW,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JSR-168, Community Are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3378240" y="497844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Data/Service Regis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3378240" y="70102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Data/Service Regist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69800" y="380880"/>
            <a:ext cx="12065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ternal Resources 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892840" y="4292640"/>
            <a:ext cx="1219320" cy="11682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4330800" y="3174840"/>
            <a:ext cx="4330440" cy="1562400"/>
            <a:chOff x="4330800" y="3174840"/>
            <a:chExt cx="4330440" cy="1562400"/>
          </a:xfrm>
        </p:grpSpPr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>
              <a:off x="4991040" y="3174840"/>
              <a:ext cx="9399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4330800" y="4216320"/>
              <a:ext cx="93960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5"/>
            <a:stretch/>
          </p:blipFill>
          <p:spPr>
            <a:xfrm>
              <a:off x="6972480" y="3174840"/>
              <a:ext cx="93960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6"/>
            <a:stretch/>
          </p:blipFill>
          <p:spPr>
            <a:xfrm>
              <a:off x="7721640" y="4216320"/>
              <a:ext cx="9396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4521240" y="5346720"/>
            <a:ext cx="3936960" cy="1676520"/>
            <a:chOff x="4521240" y="5346720"/>
            <a:chExt cx="3936960" cy="1676520"/>
          </a:xfrm>
        </p:grpSpPr>
        <p:pic>
          <p:nvPicPr>
            <p:cNvPr id="466" name="" descr=""/>
            <p:cNvPicPr/>
            <p:nvPr/>
          </p:nvPicPr>
          <p:blipFill>
            <a:blip r:embed="rId7"/>
            <a:stretch/>
          </p:blipFill>
          <p:spPr>
            <a:xfrm>
              <a:off x="4521240" y="534672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8"/>
            <a:stretch/>
          </p:blipFill>
          <p:spPr>
            <a:xfrm>
              <a:off x="5181480" y="607068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9"/>
            <a:stretch/>
          </p:blipFill>
          <p:spPr>
            <a:xfrm>
              <a:off x="6222960" y="647712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10"/>
            <a:stretch/>
          </p:blipFill>
          <p:spPr>
            <a:xfrm>
              <a:off x="7162920" y="607068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11"/>
            <a:stretch/>
          </p:blipFill>
          <p:spPr>
            <a:xfrm>
              <a:off x="7912080" y="534672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" descr=""/>
          <p:cNvPicPr/>
          <p:nvPr/>
        </p:nvPicPr>
        <p:blipFill>
          <a:blip r:embed="rId12"/>
          <a:stretch/>
        </p:blipFill>
        <p:spPr>
          <a:xfrm>
            <a:off x="5867280" y="42418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673200" y="186696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673200" y="3429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5"/>
          <a:stretch/>
        </p:blipFill>
        <p:spPr>
          <a:xfrm>
            <a:off x="673200" y="49910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673200" y="65530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403440" y="213372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GS - National Ma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3403440" y="213372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USGS - National Ma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3403440" y="369576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oogle Map/Eart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3403440" y="369576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Google Map/Eart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3403440" y="4946760"/>
            <a:ext cx="9144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/Processing Services Hosted by Non-ESIP Memb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3403440" y="4946760"/>
            <a:ext cx="9144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Data/Processing Services Hosted by Non-ESIP Memb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3403440" y="6508800"/>
            <a:ext cx="9144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/Processing Services Hosted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y ESIP Memb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3403440" y="6508800"/>
            <a:ext cx="9144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Data/Processing Services Hosted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5252"/>
                </a:solidFill>
                <a:latin typeface="Gill Sans"/>
                <a:ea typeface="Gill Sans"/>
              </a:rPr>
              <a:t>by ESIP Memb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3882960" y="4570560"/>
            <a:ext cx="5322960" cy="2725560"/>
            <a:chOff x="3882960" y="4570560"/>
            <a:chExt cx="5322960" cy="2725560"/>
          </a:xfrm>
        </p:grpSpPr>
        <p:sp>
          <p:nvSpPr>
            <p:cNvPr id="485" name=""/>
            <p:cNvSpPr/>
            <p:nvPr/>
          </p:nvSpPr>
          <p:spPr>
            <a:xfrm flipV="1">
              <a:off x="3882960" y="4613040"/>
              <a:ext cx="2597040" cy="1050840"/>
            </a:xfrm>
            <a:prstGeom prst="line">
              <a:avLst/>
            </a:prstGeom>
            <a:ln w="25560">
              <a:solidFill>
                <a:srgbClr val="ff001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934880" y="4613040"/>
              <a:ext cx="1522440" cy="2189160"/>
            </a:xfrm>
            <a:prstGeom prst="line">
              <a:avLst/>
            </a:prstGeom>
            <a:ln w="25560">
              <a:solidFill>
                <a:srgbClr val="ff001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502320" y="4613400"/>
              <a:ext cx="0" cy="2682720"/>
            </a:xfrm>
            <a:prstGeom prst="line">
              <a:avLst/>
            </a:prstGeom>
            <a:ln w="25560">
              <a:solidFill>
                <a:srgbClr val="ff001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6457680" y="4570560"/>
              <a:ext cx="1438200" cy="2209680"/>
            </a:xfrm>
            <a:prstGeom prst="line">
              <a:avLst/>
            </a:prstGeom>
            <a:ln w="25560">
              <a:solidFill>
                <a:srgbClr val="ff001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480000" y="4590720"/>
              <a:ext cx="2725920" cy="966600"/>
            </a:xfrm>
            <a:prstGeom prst="line">
              <a:avLst/>
            </a:prstGeom>
            <a:ln w="25560">
              <a:solidFill>
                <a:srgbClr val="ff001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114960" y="4313160"/>
            <a:ext cx="816120" cy="752040"/>
            <a:chOff x="6114960" y="4313160"/>
            <a:chExt cx="816120" cy="752040"/>
          </a:xfrm>
        </p:grpSpPr>
        <p:sp>
          <p:nvSpPr>
            <p:cNvPr id="491" name=""/>
            <p:cNvSpPr/>
            <p:nvPr/>
          </p:nvSpPr>
          <p:spPr>
            <a:xfrm flipH="1">
              <a:off x="6114960" y="4313160"/>
              <a:ext cx="214560" cy="363960"/>
            </a:xfrm>
            <a:prstGeom prst="line">
              <a:avLst/>
            </a:prstGeom>
            <a:ln w="177840">
              <a:solidFill>
                <a:srgbClr val="00ff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37400" y="4313160"/>
              <a:ext cx="193680" cy="363960"/>
            </a:xfrm>
            <a:prstGeom prst="line">
              <a:avLst/>
            </a:prstGeom>
            <a:ln w="177840">
              <a:solidFill>
                <a:srgbClr val="00ff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9520" y="5065200"/>
              <a:ext cx="387360" cy="0"/>
            </a:xfrm>
            <a:prstGeom prst="line">
              <a:avLst/>
            </a:prstGeom>
            <a:ln w="177840">
              <a:solidFill>
                <a:srgbClr val="00ff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70320" y="2381400"/>
            <a:ext cx="4334040" cy="2468520"/>
            <a:chOff x="4270320" y="2381400"/>
            <a:chExt cx="4334040" cy="2468520"/>
          </a:xfrm>
        </p:grpSpPr>
        <p:sp>
          <p:nvSpPr>
            <p:cNvPr id="495" name=""/>
            <p:cNvSpPr/>
            <p:nvPr/>
          </p:nvSpPr>
          <p:spPr>
            <a:xfrm>
              <a:off x="4270320" y="4033800"/>
              <a:ext cx="1265400" cy="793800"/>
            </a:xfrm>
            <a:prstGeom prst="line">
              <a:avLst/>
            </a:prstGeom>
            <a:ln w="507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78440" y="2424240"/>
              <a:ext cx="771480" cy="2209680"/>
            </a:xfrm>
            <a:prstGeom prst="line">
              <a:avLst/>
            </a:prstGeom>
            <a:ln w="507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222600" y="2381400"/>
              <a:ext cx="1436760" cy="2360520"/>
            </a:xfrm>
            <a:prstGeom prst="line">
              <a:avLst/>
            </a:prstGeom>
            <a:ln w="507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265800" y="3862440"/>
              <a:ext cx="2338560" cy="987480"/>
            </a:xfrm>
            <a:prstGeom prst="line">
              <a:avLst/>
            </a:prstGeom>
            <a:ln w="507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334040" y="2359080"/>
            <a:ext cx="4355640" cy="2529000"/>
            <a:chOff x="4334040" y="2359080"/>
            <a:chExt cx="4355640" cy="2529000"/>
          </a:xfrm>
        </p:grpSpPr>
        <p:sp>
          <p:nvSpPr>
            <p:cNvPr id="500" name=""/>
            <p:cNvSpPr/>
            <p:nvPr/>
          </p:nvSpPr>
          <p:spPr>
            <a:xfrm flipH="1">
              <a:off x="7484760" y="4011480"/>
              <a:ext cx="1204920" cy="876600"/>
            </a:xfrm>
            <a:prstGeom prst="line">
              <a:avLst/>
            </a:prstGeom>
            <a:ln w="255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30600" y="2403360"/>
              <a:ext cx="428760" cy="2273400"/>
            </a:xfrm>
            <a:prstGeom prst="line">
              <a:avLst/>
            </a:prstGeom>
            <a:ln w="255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9800" y="2359080"/>
              <a:ext cx="1652760" cy="2425680"/>
            </a:xfrm>
            <a:prstGeom prst="line">
              <a:avLst/>
            </a:prstGeom>
            <a:ln w="255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34040" y="3882960"/>
              <a:ext cx="2382840" cy="987480"/>
            </a:xfrm>
            <a:prstGeom prst="line">
              <a:avLst/>
            </a:prstGeom>
            <a:ln w="25560">
              <a:solidFill>
                <a:srgbClr val="f8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768760" y="1562040"/>
            <a:ext cx="74674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111280" y="4550040"/>
            <a:ext cx="2771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Question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